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0C6A-5505-43D7-9099-DAD23349058F}" type="slidenum">
              <a:rPr b="0" lang="nb-N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ssholder for lysbilde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72C5-E295-4632-A4F3-8FC9E0100B5A}" type="slidenum">
              <a:rPr b="0" lang="nb-N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0D4-7757-4863-A29B-AE935FC7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E539-0B5B-4FFC-B0AB-4E724065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4FE10-0159-4771-B814-4D70F72C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1366B-088B-45DE-A6F0-12703F7F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E702C-3BD5-4D41-B52A-B58D3B62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81A16-A0D2-4A51-9AAA-9DF29A7F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7F0FB-4986-4AFE-BDE9-741C0FFB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A3170-A16B-4724-A92D-813C8BFD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3DF81-1B4A-47DC-9468-0CB44C20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C8D45-9632-4BF1-A2A6-6CA844BA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D1FB4-F954-4B46-A6E3-C6E3825B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FA82-3E2E-431A-84CE-7C69F44E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8E36-AF3C-491A-BE2B-FDA8FDF6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5B7A-C7B1-4F47-80CE-5D29C4E3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42A0-FB84-4B92-9502-123D13A0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04B1-C3ED-4672-A15D-E43680DA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9FC1-02C4-461A-9841-28E75E64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BE49-EF44-4B7A-8177-BFB64099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CF4E-CDC9-4145-8945-3C094840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9448-873F-43BB-954C-FA4B4DB9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28D2-6258-4ED4-B924-115FDF65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EE61-6D97-453C-8750-BB4EC8C5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97FC-4D5C-416C-B65E-3FCEEF38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C9C2-B1C8-489C-ACF2-8E6F7C53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D5CD-0442-4EC9-9B63-C77CAA4A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AE42-2E43-4C4E-9C89-A13520DA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15E75-E99B-4190-92C2-A0A128B0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CDE6D-0578-4C46-94F8-693B200C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EB787-DDE3-455B-B29F-0F961E67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DDC71-0154-4016-A1E7-03D0D2D5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8C9AB-689B-4562-9CD9-B1A6107B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8A2-7C83-4EFF-8DB9-3E76F5D7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E4C5F-109E-4281-9333-1075757F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CA89A-4EE3-4433-BFC0-29478171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2E67D-EA27-4B51-8F9E-C6D723B6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EDFAD-6CCD-4FC1-B10D-EB0017B2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E9C78-7AA3-47D0-A5DF-A931919C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C7E96-7588-4073-B2F2-A5AE9C72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BF2AB-A2EE-417A-A70E-1691F8B6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C1E6A-2B31-4DC4-8635-78FC8166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5E93E-3B82-4589-895F-34156EDE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7A255-CFD2-43E8-AE37-5C7634FF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A1C5-E0C7-4C2E-96A5-94D96321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94BD0-1911-4D62-B59F-D2D78D8B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7BBB9-9816-46D3-A305-ABB5EA03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9929D-E4B0-4B7A-8C61-842233B2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9EB98-179B-4B75-B815-5E145E86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F77AA-30BB-48B8-B36D-8239DB16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64B81-42A6-4037-8DE4-3DCB7573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E8C6B-E70C-4787-A56E-FD73B751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11BFC-0AEC-4C3F-A130-AA2D704C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E859B-4273-4C95-95D7-7577BB78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A9274-8675-45DE-8013-6ADEF8BE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9E1E-67E4-4FA4-825C-E1C17CF1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A3E14-CDB4-47F3-8AB9-2F26FB34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F54A9-D3DE-4625-9765-9B1E6F5F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AA048-FC0C-4001-A3E9-C09D65F3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825CD-F8F1-434F-AF7F-1FFA2646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AAB0A-5970-451C-B417-D6965C66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92632-EE63-4832-9551-4790DDA1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961E6-F38F-4BD9-90AE-2B182503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485CD-A388-413B-A6D1-4E4A7410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EBA92-7117-4AAE-8DAD-10958308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F62D7-E6C1-4655-894A-5862AAE9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364C-A068-433B-876A-7C5BD067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B817A-FB9F-48EF-B90F-C750573C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6F2DE-9017-494D-A5E9-BCC23B2A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D6963-0016-4A99-9BD0-9E6FF913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8DC8A-A53C-4337-A932-F243A7D1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EA2EC-E481-4017-AC6C-B0360644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1634E-170E-4B60-BAB1-B9E1A625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69CFF-91FC-4D92-A643-D1F07E96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151E7-4602-4379-9B1A-CE6A0D4A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DC39D-4393-49DE-B528-29F43A47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A6C9A-564F-46B2-ADDD-14C46145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5749-5EFF-40DE-815A-F8B97FE4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92EBC-8886-4707-94FF-E7F0506B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5147C-30B8-4737-A823-202F0F68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EE7FB-12F5-484D-AA60-EDD1728A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7B6CE-C1C4-4AB2-B7E1-6E13CBC0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D8A4C-52F3-4E5B-A854-75F8D179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F1E43-A07D-4107-9D5C-A0F7C98F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6723A-1034-4D00-AD13-55A4F94C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EC4E6-DA26-41DF-8035-90FFAAE7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88F2B-2350-4C40-A006-A953F4EA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DE165-C1B2-4CA0-9B69-1A603991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58F4-25CE-466F-8184-C39EFD20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D595D-7A83-4ED1-9C01-36AF19BB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5166D-112C-4547-949B-E2DE4BD9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BF6A7-77EA-4CF9-86CE-866FF2F5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F83CF-CDD0-429C-B272-9FA8CB82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41854-83D2-49BE-9822-EF7AECDF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6B5DB-0B6E-4E63-8F72-3A1148E9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D1094-4180-4314-BCCF-2BAA9E9C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B80EA-546B-4446-BF98-6381ACBC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34B43-FD25-4FD7-A145-18050414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FCDC3-6420-4C03-B80F-A582C2EA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34F7-055B-4940-BF04-506D7412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63FE4-9809-4EEF-B10B-315D0E10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8BE51-6099-4C7E-9031-E0BF49B8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E3E45-94D8-4E80-8E08-553F3557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516D5-7F47-4F43-91CD-949EB0AD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DF005-6A1A-42DD-AFB7-EAD2703D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D14DB-C9EE-4315-83FE-F52DD90D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6ECCA-C29E-49F2-A495-E22C35FF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CFFBE-1370-4714-99FB-949C2542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D61E8-DF35-4873-BA7F-096C3BE1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3C41D-8208-4FC2-9D88-8424FABD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0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1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2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9AD7-4CA1-4DB8-A930-E2436F4169B4}" type="slidenum">
              <a:rPr b="0" lang="nb-NO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5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5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5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6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6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6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64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65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66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0E61-8228-4BD0-BBFA-76BAF233E4C4}" type="slidenum">
              <a:rPr b="0" lang="nb-NO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09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10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11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12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114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15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117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18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19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20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121" name="Group 23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122" name="Chevron 9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23" name="Rectangle 22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1E04-4597-440D-B695-65B9E277ED05}" type="slidenum">
              <a:rPr b="0" lang="nb-NO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66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67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68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69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171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72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174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75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76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77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8A67-3275-4256-A4F1-15D1FADDBDE9}" type="slidenum">
              <a:rPr b="0" lang="nb-NO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20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21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22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23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225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26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228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29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30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31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232" name="Group 7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33" name="Chevron 8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34" name="Rectangle 9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2734-AF78-4B13-979C-9517C0299948}" type="slidenum">
              <a:rPr b="0" lang="nb-NO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77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78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79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80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282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83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285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86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87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88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289" name="Group 9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90" name="Chevron 10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91" name="Rectangle 11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0974-C759-4B7C-914D-862E9D471FA5}" type="slidenum">
              <a:rPr b="0" lang="nb-NO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34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35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36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37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8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339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40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342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343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344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345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346" name="Group 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347" name="Chevron 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348" name="Rectangle 7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9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0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1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460C-2C94-4C0E-8A03-7C21250D09E8}" type="slidenum">
              <a:rPr b="0" lang="nb-NO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9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9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9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9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39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9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39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00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01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02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DB55-2423-412E-ABB7-956631C94843}" type="slidenum">
              <a:rPr b="0" lang="nb-NO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4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44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44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4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45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45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45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54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55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56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457" name="Group 6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458" name="Chevron 7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59" name="Rectangle 8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1AF2-2A1A-4CF2-BAEA-BA6C0320969E}" type="slidenum">
              <a:rPr b="0" lang="nb-NO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webster.hibo.no/alu/a310/tverlandet/Samfunnsfag/default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logster.com/" TargetMode="External"/><Relationship Id="rId2" Type="http://schemas.openxmlformats.org/officeDocument/2006/relationships/hyperlink" Target="http://xxroboticzxx.glogster.com/Stop-Cyberbullying/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Tittel 1" descr=""/>
          <p:cNvPicPr/>
          <p:nvPr/>
        </p:nvPicPr>
        <p:blipFill>
          <a:blip r:embed="rId1"/>
          <a:stretch/>
        </p:blipFill>
        <p:spPr>
          <a:xfrm>
            <a:off x="682560" y="1852560"/>
            <a:ext cx="8077320" cy="14810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20620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2800" spc="-1" strike="noStrike">
              <a:solidFill>
                <a:srgbClr val="898989"/>
              </a:solidFill>
              <a:latin typeface="Cambria"/>
            </a:endParaRPr>
          </a:p>
        </p:txBody>
      </p:sp>
    </p:spTree>
  </p:cSld>
  <p:transition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Tittel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 txBox="1"/>
          <p:nvPr/>
        </p:nvSpPr>
        <p:spPr>
          <a:xfrm>
            <a:off x="2143080" y="1714320"/>
            <a:ext cx="5587920" cy="38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500" spc="-1" strike="noStrike">
                <a:solidFill>
                  <a:srgbClr val="000000"/>
                </a:solidFill>
                <a:latin typeface="Cambria"/>
              </a:rPr>
              <a:t>Format?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500" spc="-1" strike="noStrike">
                <a:solidFill>
                  <a:srgbClr val="000000"/>
                </a:solidFill>
                <a:latin typeface="Cambria"/>
              </a:rPr>
              <a:t>Layout?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500" spc="-1" strike="noStrike">
                <a:solidFill>
                  <a:srgbClr val="000000"/>
                </a:solidFill>
                <a:latin typeface="Cambria"/>
              </a:rPr>
              <a:t>Estetikk?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500" spc="-1" strike="noStrike">
                <a:solidFill>
                  <a:srgbClr val="000000"/>
                </a:solidFill>
                <a:latin typeface="Cambria"/>
              </a:rPr>
              <a:t>Program?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500" spc="-1" strike="noStrike">
                <a:solidFill>
                  <a:srgbClr val="000000"/>
                </a:solidFill>
                <a:latin typeface="Cambria"/>
              </a:rPr>
              <a:t>Visuell kommunikasjon?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500" spc="-1" strike="noStrike">
                <a:solidFill>
                  <a:srgbClr val="000000"/>
                </a:solidFill>
                <a:latin typeface="Cambria"/>
              </a:rPr>
              <a:t>Produsere, ikke bare konsumere?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500" spc="-1" strike="noStrike">
                <a:solidFill>
                  <a:srgbClr val="000000"/>
                </a:solidFill>
                <a:latin typeface="Cambria"/>
              </a:rPr>
              <a:t>Lage/gjøre, ikke bare se/høre?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500" spc="-1" strike="noStrike">
                <a:solidFill>
                  <a:srgbClr val="000000"/>
                </a:solidFill>
                <a:latin typeface="Cambria"/>
              </a:rPr>
              <a:t>Blir elevene motiverte?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500" spc="-1" strike="noStrike">
                <a:solidFill>
                  <a:srgbClr val="000000"/>
                </a:solidFill>
                <a:latin typeface="Cambria"/>
              </a:rPr>
              <a:t>Lærer de (bedre)?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500" spc="-1" strike="noStrike">
                <a:solidFill>
                  <a:srgbClr val="000000"/>
                </a:solidFill>
                <a:latin typeface="Cambria"/>
              </a:rPr>
              <a:t>Hva lærer de da?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4595760" y="214200"/>
            <a:ext cx="4308480" cy="64296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289400" cy="64296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5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4286160" cy="62895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6" descr=""/>
          <p:cNvPicPr/>
          <p:nvPr/>
        </p:nvPicPr>
        <p:blipFill>
          <a:blip r:embed="rId2"/>
          <a:stretch/>
        </p:blipFill>
        <p:spPr>
          <a:xfrm>
            <a:off x="4714920" y="285840"/>
            <a:ext cx="4078080" cy="62863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Tittel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" descr=""/>
          <p:cNvPicPr/>
          <p:nvPr/>
        </p:nvPicPr>
        <p:blipFill>
          <a:blip r:embed="rId2"/>
          <a:stretch/>
        </p:blipFill>
        <p:spPr>
          <a:xfrm>
            <a:off x="500040" y="1571760"/>
            <a:ext cx="3489480" cy="45259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" descr=""/>
          <p:cNvPicPr/>
          <p:nvPr/>
        </p:nvPicPr>
        <p:blipFill>
          <a:blip r:embed="rId3"/>
          <a:stretch/>
        </p:blipFill>
        <p:spPr>
          <a:xfrm>
            <a:off x="4929120" y="1643040"/>
            <a:ext cx="2617920" cy="3714840"/>
          </a:xfrm>
          <a:prstGeom prst="rect">
            <a:avLst/>
          </a:prstGeom>
          <a:ln w="0">
            <a:noFill/>
          </a:ln>
        </p:spPr>
      </p:pic>
      <p:sp>
        <p:nvSpPr>
          <p:cNvPr id="519" name="TekstSylinder 5"/>
          <p:cNvSpPr/>
          <p:nvPr/>
        </p:nvSpPr>
        <p:spPr>
          <a:xfrm>
            <a:off x="5429160" y="564372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Cambria"/>
              </a:rPr>
              <a:t>Laget i … ?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520" name="Rett pil 7"/>
          <p:cNvCxnSpPr/>
          <p:nvPr/>
        </p:nvCxnSpPr>
        <p:spPr>
          <a:xfrm flipH="1" flipV="1">
            <a:off x="3928680" y="5428440"/>
            <a:ext cx="1286640" cy="429480"/>
          </a:xfrm>
          <a:prstGeom prst="straightConnector1">
            <a:avLst/>
          </a:prstGeom>
          <a:ln w="12600">
            <a:solidFill>
              <a:srgbClr val="006aed"/>
            </a:solidFill>
            <a:miter/>
            <a:tailEnd len="med" type="arrow" w="med"/>
          </a:ln>
        </p:spPr>
      </p:cxnSp>
      <p:cxnSp>
        <p:nvCxnSpPr>
          <p:cNvPr id="521" name="Rett pil 9"/>
          <p:cNvCxnSpPr/>
          <p:nvPr/>
        </p:nvCxnSpPr>
        <p:spPr>
          <a:xfrm flipH="1" flipV="1">
            <a:off x="5214600" y="1713960"/>
            <a:ext cx="1000800" cy="3858120"/>
          </a:xfrm>
          <a:prstGeom prst="straightConnector1">
            <a:avLst/>
          </a:prstGeom>
          <a:ln w="12600">
            <a:solidFill>
              <a:srgbClr val="006aed"/>
            </a:solidFill>
            <a:miter/>
            <a:tailEnd len="med" type="arrow" w="med"/>
          </a:ln>
        </p:spPr>
      </p:cxnSp>
    </p:spTree>
  </p:cSld>
  <p:transition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http://webster.hibo.no/alu/a310/tverlandet/Samfunnsfag/Samfunnsfag/images/ppt%20hvordan%20lage%20plakat_Page_1.jpg"/>
          <p:cNvPicPr/>
          <p:nvPr/>
        </p:nvPicPr>
        <p:blipFill>
          <a:blip r:embed="rId1"/>
          <a:stretch/>
        </p:blipFill>
        <p:spPr>
          <a:xfrm>
            <a:off x="428760" y="642960"/>
            <a:ext cx="4073400" cy="54291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http://webster.hibo.no/alu/a310/tverlandet/Samfunnsfag/Samfunnsfag/images/ppt%20hvordan%20lage%20plakat_Page_2.jpg"/>
          <p:cNvPicPr/>
          <p:nvPr/>
        </p:nvPicPr>
        <p:blipFill>
          <a:blip r:embed="rId2"/>
          <a:stretch/>
        </p:blipFill>
        <p:spPr>
          <a:xfrm>
            <a:off x="4572000" y="642960"/>
            <a:ext cx="4075200" cy="5430960"/>
          </a:xfrm>
          <a:prstGeom prst="rect">
            <a:avLst/>
          </a:prstGeom>
          <a:ln w="0">
            <a:noFill/>
          </a:ln>
        </p:spPr>
      </p:pic>
      <p:sp>
        <p:nvSpPr>
          <p:cNvPr id="524" name="TekstSylinder 3"/>
          <p:cNvSpPr/>
          <p:nvPr/>
        </p:nvSpPr>
        <p:spPr>
          <a:xfrm>
            <a:off x="2857680" y="628668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e78707"/>
                </a:solidFill>
                <a:uFillTx/>
                <a:latin typeface="Cambria"/>
                <a:hlinkClick r:id="rId3"/>
              </a:rPr>
              <a:t>http://webster.hibo.no/alu/a310/tverlandet/Samfunnsfag/default.html</a:t>
            </a:r>
            <a:r>
              <a:rPr b="0" lang="nb-NO" sz="1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Tittel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Cambria"/>
              </a:rPr>
              <a:t>To sammen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Cambria"/>
              </a:rPr>
              <a:t>Emne/tema fra ditt fag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Cambria"/>
              </a:rPr>
              <a:t>9 ”bokser” (fire bilder og 5 med tekst?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Cambria"/>
              </a:rPr>
              <a:t>To bilder skal være dine egne, behandlet/ tilpasset i PhotoFiltre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Cambria"/>
              </a:rPr>
              <a:t>Bruk Word og en tabell med 9 ruter som utgangspunkt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Cambria"/>
              </a:rPr>
              <a:t>I skoleoppgaver krav om egneproduserte tekster og ryddig kildebruk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Tittel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3" descr=""/>
          <p:cNvPicPr/>
          <p:nvPr/>
        </p:nvPicPr>
        <p:blipFill>
          <a:blip r:embed="rId2"/>
          <a:stretch/>
        </p:blipFill>
        <p:spPr>
          <a:xfrm>
            <a:off x="5000760" y="1500120"/>
            <a:ext cx="2000160" cy="22766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" descr=""/>
          <p:cNvPicPr/>
          <p:nvPr/>
        </p:nvPicPr>
        <p:blipFill>
          <a:blip r:embed="rId3"/>
          <a:stretch/>
        </p:blipFill>
        <p:spPr>
          <a:xfrm>
            <a:off x="5572080" y="3714840"/>
            <a:ext cx="2338560" cy="26971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6" descr=""/>
          <p:cNvPicPr/>
          <p:nvPr/>
        </p:nvPicPr>
        <p:blipFill>
          <a:blip r:embed="rId4"/>
          <a:stretch/>
        </p:blipFill>
        <p:spPr>
          <a:xfrm>
            <a:off x="1297080" y="1643040"/>
            <a:ext cx="3467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ktangel 1"/>
          <p:cNvSpPr/>
          <p:nvPr/>
        </p:nvSpPr>
        <p:spPr>
          <a:xfrm>
            <a:off x="1857240" y="928800"/>
            <a:ext cx="65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32"/>
                </a:solidFill>
                <a:latin typeface="Arial"/>
                <a:ea typeface="宋体"/>
              </a:rPr>
              <a:t>Plakat/reklame: Glogster: </a:t>
            </a:r>
            <a:r>
              <a:rPr b="0" lang="nb-NO" sz="1800" spc="-1" strike="noStrike" u="sng">
                <a:solidFill>
                  <a:srgbClr val="e78707"/>
                </a:solidFill>
                <a:uFillTx/>
                <a:latin typeface="Arial"/>
                <a:ea typeface="宋体"/>
                <a:hlinkClick r:id="rId1"/>
              </a:rPr>
              <a:t>http://www.glogster.com/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32" name="Picture 4" descr="Stop Cyberbullying picture thumbnai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7680" y="1500120"/>
            <a:ext cx="314316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5:07:42Z</dcterms:created>
  <dc:creator>seni</dc:creator>
  <dc:description/>
  <dc:language>en-US</dc:language>
  <cp:lastModifiedBy>seni</cp:lastModifiedBy>
  <dcterms:modified xsi:type="dcterms:W3CDTF">2010-05-04T08:50:37Z</dcterms:modified>
  <cp:revision>22</cp:revision>
  <dc:subject/>
  <dc:title>Digital avis/plakat</dc:title>
</cp:coreProperties>
</file>